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440-C542-412A-941E-C53D337C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822-3B31-42A3-BE78-EB0D079B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42D-6A73-4ECB-BAA6-24D08F9B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770-20C4-49E6-8A2A-73CDB5E5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2F93-24A1-406F-8B61-287EAEDA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3CF4-BB8F-4E61-BE22-65C414B8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C2E2-CFEB-4947-B09C-140B2543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182A-2318-4F7F-AE98-CC7CAFCD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D394-DA22-4CA6-8554-8E18592C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021A-E138-4A03-A0F8-D5CC96C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E38C-9DEF-468F-BCE3-4E3F48CE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3FA-BCF7-4368-905C-96771BD0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F78E-11E2-4553-B1D2-2C955F1A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9830-CFD1-4592-B9CF-44AAEA1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9FE3-776F-4EA5-8845-86BAFFAA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2936-C3BE-457D-857D-3CDF23A4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68DA-61A3-4358-8F3D-BEB750F1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835-ACFF-4EF0-8DB0-A66E02E7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240-E51B-4A87-911C-30745108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0EF-E58F-47F7-AB94-3F84E503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9A7-481B-4A60-AE40-994275E3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7CB-CD7B-446B-8B34-F97CF394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A6F-E722-453F-9878-974975DA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60E-D720-45A6-95E2-888F716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4277-D0AB-4579-BD77-6263AD8387CE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8630-1893-4294-ADF3-16677B139339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PSICHIKOS RAID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sichikos ontogenezė ir filogenezė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gaus raidos periodiz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E.ERIKSONO PSICHOSOCIALINĖS RAIDOS TEORIJ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augumas – nesaug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nuo gimimo iki 1 met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utonomiškumas – gėda, abejon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1-3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iciatyvumas – kalt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3-6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Meistriškumas – menkavert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7-11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Tapatumas – vaidmenų nea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paauglystė, 11 – 20 m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ymumas – izoli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jaunystė, 21 –2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tsinaujinimas – sąsting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vidutinis amži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egracija (pilnatvė) – nevilt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senatvė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Raidos KRIZĖ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utrieji individualios raidos perioda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n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v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ūs period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rizės esmė – poreikių, kurie kyla kiekvieno amžiaus tarpsnio pabaigoje, nepatenkinimo rezulta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patuma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1) sunku atskirti krizės pradžią ir pabaigą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2) mokykloje krenta bendras darbingumas, konfliktai su aplinkiniais, konfliktai viduj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3) šiame periode vyst. būdingas negatyvus charakteris, vyst. atlieka tarsi griaunamąjį darbą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RAIDOS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KRIZ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 met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 metų (A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7 metų (perėjimas nuo ikimokyklinio amžiaus į mokyklin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auglystė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idutinio amžiaus (ap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m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enatvės + šeimos kriz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auglystė ir jaunystė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kceler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nfantiliz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Didėja sugebėjimas abstrakčiai mąsty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adidintas emocional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sichosocialinis moratori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il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ūšies istorinė raida, psichikos atsiradimas ir ra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Ont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žmogaus raida per jo gyvenimą. Individualus organizmo vystymasis. Ją tiria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idos psicholog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FILOGENETINIS PSICHIKOS VYSTYMASI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inezė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–organizmo bendro aktyvumo pasikeitimas, veikiant kuriam nors aplinkos veiksni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Taksis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yra kryptinga reakcija į konkretų aplinkos reiškin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Nesąlyginis refleks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atskiro organizmo lokali reakcija į išorinį ar vidinį dirginim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inkt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sudėtingiausias paveldėto elgesio komponentas, jam sukelti reikalinga vidinė parengtis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Pripratim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susijęs su viso organizmo ar atskirų jo dalių reakcijų silpnėjimu ir išnykimu, kartojantis nereikšmingam arba virtusiam nereikšmingu stimul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lasik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rument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telektinė veikla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įgalina orientuotis naujoje situacijoje, išskirti esminius jos elementus, numatyti įvykių eigą, sudaryti veikimo planą ir jį įgyvendin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200" spc="-1" strike="noStrike">
                <a:solidFill>
                  <a:srgbClr val="330033"/>
                </a:solidFill>
                <a:latin typeface="Tahoma"/>
              </a:rPr>
              <a:t>Raidos periodizacij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renatalinis perio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Kūdikystė (nuo gimimo iki 1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Ankstyvoji vaikystė (1-3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kimokyklinis amžius (3-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esnysis mokyklinis amžius (6-1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auglystė (10-1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yst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vyresnysis mokyklinis amžius (15-17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jaunystės laikotarpis (17-2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Br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pirmasis laikotarpis (21-3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laikotarpis (35-6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gyvenęs amžius (60-7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Senatvė (75-9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lgaamžystė (90 ir daugiau metų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NIS VYSTYMAS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nis vystymasis – pažinimo, emocinių – motyvacinių procesų ir asmenybės vyst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gaus raidos aspekta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Fiz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ognityv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socialinis aspekt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ūdikystė (10 d. – 1 m.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ensomotorinis intelekt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Aktyvumą skatina įvairūs fiziologiniai poreikiai, pasaulio pažinimas vyksta per jutimo organų lavėjimą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Kalbos raid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čiauškėji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Psichosocialinis vystymas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šypsojimasis/juokas, verkimas, emocijos, temperamentas. Prieraišumo formavimasis (J. Bowlby, Lorencas, M. Ainsworth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erašumo charakteristikos 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pg. J.Bowlby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Artumo palaikym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us “roj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i platforma/ba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Išsiskyrimo ner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Vaikų intelekto raidos stadijos </a:t>
            </a:r>
            <a:br>
              <a:rPr sz="38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(pg. J.Piaget)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ensomotorinė stadija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0-2m). Vaikas turi refleksinį elgesį, jį po truputį keičia sudėtingesnė veikla. Su aplinka susipažįsta per jutimus, judesius. Savęs dar neskiria nuo aplink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riešoperacinio mąstymo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2-7m) Vaikas pradeda naudotis kalba ir simboliais. Mąstymui būdingas egocentriškumas, jis negali suprasti kito žmogaus perspektyvos. Pradeda suprasti loginius ryšius, sugeba skirstyti objektus į klases, įsisąmonina tvermės dėsnį. Ryškėja simbolinis mąstym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Konkreč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7-11m). Vaikas ima suprasti priežasties-pasekmės ryšius, suvokia laiko, kiekio, masės, ilgio sąvokas. Mąstymas išlieka konkretus, gali suprasti tik veiksmus su konkrečiais daikta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1-14m). Mąstymas logiškas, mokslinis (t.y. keliamos hipotezės, jos tikrinamos, siekiama tam tikrų tikslų) naudojamos abstrakcij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ost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4 ir daugiau m.) – pats autorius neskyrė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25:21Z</dcterms:created>
  <dc:creator>vplc</dc:creator>
  <dc:description/>
  <dc:language>en-US</dc:language>
  <cp:lastModifiedBy> </cp:lastModifiedBy>
  <dcterms:modified xsi:type="dcterms:W3CDTF">2007-09-12T21:49:38Z</dcterms:modified>
  <cp:revision>21</cp:revision>
  <dc:subject/>
  <dc:title>Slide 1</dc:title>
</cp:coreProperties>
</file>